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365-5F38-4EF2-A6E3-30999FE7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FD3-EFA3-4337-B46D-0336AF41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F39-3CB8-43DB-B99B-E298BBA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82C-AD71-4E1F-BDF0-1F950C1B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ACE-24D9-40BA-9748-F5BF34BB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59F-F5C4-43C7-AC55-86E891EE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A17-2560-4DA4-B93A-1915E19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D66-B0DE-42AE-8DBC-39FBD40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07D-12D2-4539-B9AF-BCC2B742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0FA-BEB9-4584-874D-DF2B7BD0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D4E-5283-4A71-B0A3-0F463DC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6A3-3879-43C4-BB8C-9DD0AA0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37B-2550-4A80-8ED5-97A55B35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9600" y="838080"/>
            <a:ext cx="6548400" cy="784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057400" y="3505320"/>
            <a:ext cx="2666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ff82a6"/>
                  </a:solidFill>
                  <a:prstDash val="lgDash"/>
                  <a:miter/>
                </a:ln>
                <a:solidFill>
                  <a:srgbClr val="bf80e3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Arial"/>
              </a:rPr>
              <a:t>immigration</a:t>
            </a:r>
            <a:endParaRPr b="0" i="1" lang="en-US" sz="4400" spc="1" strike="noStrike">
              <a:ln w="9360">
                <a:solidFill>
                  <a:srgbClr val="ff82a6"/>
                </a:solidFill>
                <a:prstDash val="lgDash"/>
                <a:miter/>
              </a:ln>
              <a:solidFill>
                <a:srgbClr val="bf80e3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3353040" cy="3276720"/>
          </a:xfrm>
          <a:prstGeom prst="noSmoking">
            <a:avLst>
              <a:gd name="adj" fmla="val 10939"/>
            </a:avLst>
          </a:prstGeom>
          <a:solidFill>
            <a:srgbClr val="00ff00">
              <a:alpha val="23000"/>
            </a:srgbClr>
          </a:solidFill>
          <a:ln w="3240">
            <a:solidFill>
              <a:srgbClr val="ff079f"/>
            </a:solidFill>
            <a:miter/>
          </a:ln>
          <a:effectLst>
            <a:outerShdw dist="38032" dir="7846666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PA Department of Education</cp:lastModifiedBy>
  <cp:lastPrinted>2009-02-03T18:26:45Z</cp:lastPrinted>
  <dcterms:modified xsi:type="dcterms:W3CDTF">2009-02-03T18:29:18Z</dcterms:modified>
  <cp:revision>5</cp:revision>
  <dc:subject/>
  <dc:title>PowerPoint Presentation</dc:title>
</cp:coreProperties>
</file>